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007574"/>
        <c:axId val="85191101"/>
      </c:barChart>
      <c:catAx>
        <c:axId val="72007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91101"/>
        <c:crosses val="autoZero"/>
        <c:auto val="1"/>
        <c:lblAlgn val="ctr"/>
        <c:lblOffset val="100"/>
        <c:noMultiLvlLbl val="0"/>
      </c:catAx>
      <c:valAx>
        <c:axId val="851911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07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5027-C798-46D3-9DF0-FD08413C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A296-A6C1-44BB-B086-2F31FBEC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1328-9D28-4DCA-A6CA-5A3E2303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A6B2-8E1C-4ACB-8D80-75B47EB8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58B-1AE6-4255-AB7B-CE1F43FC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C929-CD57-431E-9168-011A7060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BAF8-6CD0-4C37-89D6-E23A4940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1AA8-18CC-4FC7-ABAA-81EE5CD7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8FE-1E96-4CF4-A3DB-EA1B05C7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E3CF-7547-4D53-BB81-43F60CE0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3C1C-468C-48F6-9D9A-8417C7F1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370-099E-4FC0-846A-CCEA0631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8D75D-BFB3-4A65-BAFA-83192C1442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