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86456"/>
        <c:axId val="94685257"/>
      </c:barChart>
      <c:catAx>
        <c:axId val="73286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85257"/>
        <c:crosses val="autoZero"/>
        <c:auto val="1"/>
        <c:lblAlgn val="ctr"/>
        <c:lblOffset val="100"/>
        <c:noMultiLvlLbl val="0"/>
      </c:catAx>
      <c:valAx>
        <c:axId val="94685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86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4D4-2D52-4B1E-A766-A4F5F44C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446-6013-4198-8C3C-8C91D68D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583-31BF-4202-97B1-CD6184BA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D40-A929-4513-B566-203D8439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6CD-50A2-4B9D-9BF3-EAEB96E9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32A-5590-4D17-A893-41651EF7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236-137C-4A84-9F04-96472F89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D9D-6EBC-49A7-B903-707B16DB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14B-9BD2-40E9-8787-ADEC828A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956-8774-4A58-9AD0-584B1C1B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543-5FA0-4829-A79C-F6C95C85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542-BCB1-4D55-AA81-449BCBAF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A5C04-FD73-4146-AB39-FF31B0EECC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