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997115"/>
        <c:axId val="23792374"/>
      </c:barChart>
      <c:catAx>
        <c:axId val="849971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92374"/>
        <c:crosses val="autoZero"/>
        <c:auto val="1"/>
        <c:lblAlgn val="ctr"/>
        <c:lblOffset val="100"/>
        <c:noMultiLvlLbl val="0"/>
      </c:catAx>
      <c:valAx>
        <c:axId val="237923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971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D251-6E0D-4607-88D3-FA9DFACF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E410-1DD8-4407-B986-8444785D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6E45-DDE3-49C5-BF66-CDBA72D6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6602-4ACB-4222-953B-BACE9148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F033-54DC-43FC-B6FD-9CF3C204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3E5E-F7E9-4682-9C07-436B6DB8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A49A-A191-4D73-8413-48B2E6E8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77B3-6693-4827-B0B7-65CBC798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DA71-C568-43BD-B603-C078D5FC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441F-7F71-4C8A-87E1-A946CDF4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F5E9-C2BE-488F-9E01-09BDAB10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C16C-C106-423B-BE6F-A1319B5F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78B93-6600-4C48-929D-45741397DA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