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98587"/>
        <c:axId val="83556160"/>
      </c:barChart>
      <c:catAx>
        <c:axId val="99098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56160"/>
        <c:crosses val="autoZero"/>
        <c:auto val="1"/>
        <c:lblAlgn val="ctr"/>
        <c:lblOffset val="100"/>
        <c:noMultiLvlLbl val="0"/>
      </c:catAx>
      <c:valAx>
        <c:axId val="83556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98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AA9-6C56-41F7-918B-FB899476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D0A-64C1-4BE1-86B5-31BA1CF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FAF-4388-48D2-8BD0-06245A9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CBB-16CF-44D7-AC39-644AAD5F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563-8B35-4AE6-938B-D250EFF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9A5-B2D3-4AB7-B3E7-BD92779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2A3-6630-4805-B945-6F994885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801-6680-4B95-9757-0CC9A94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19E-E210-44AB-805F-55D7EC4F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E68-CB66-4E37-B57E-04AD8D95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023-8B6A-40BE-B9C1-779A5C7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F5A-EDE3-4088-8F64-0A4DD6E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D9BC4-02FE-4EAB-98A9-DAE5802FB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