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59307"/>
        <c:axId val="59946348"/>
      </c:barChart>
      <c:catAx>
        <c:axId val="31859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6348"/>
        <c:crosses val="autoZero"/>
        <c:auto val="1"/>
        <c:lblAlgn val="ctr"/>
        <c:lblOffset val="100"/>
        <c:noMultiLvlLbl val="0"/>
      </c:catAx>
      <c:valAx>
        <c:axId val="59946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9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E9D-46E5-466E-8EB0-84381CC9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0C9-64A4-4E1B-B979-134FA4A7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794-57B7-4B32-9F92-F89A94ED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6F5-067E-4849-8C62-851CF06E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097-0A7B-4DFF-943D-43596E02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E47-45FF-4FE1-A7A5-82C87D2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515-BD93-408E-993F-80A792E3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742-4998-4B69-871B-AF7DEB7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B7F-B466-4874-8EF6-CCAA3A5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85D-D41A-4C66-AB28-6BCCF7E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827-9181-4CDC-8F98-0A86291F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4C8-117D-4F8D-ADEC-F6BEE0F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F417-4E53-4878-972A-D9CBB35A20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