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46418"/>
        <c:axId val="51191306"/>
      </c:barChart>
      <c:catAx>
        <c:axId val="92546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91306"/>
        <c:crosses val="autoZero"/>
        <c:auto val="1"/>
        <c:lblAlgn val="ctr"/>
        <c:lblOffset val="100"/>
        <c:noMultiLvlLbl val="0"/>
      </c:catAx>
      <c:valAx>
        <c:axId val="51191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46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696-6583-4291-8B7B-D67120DC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84C-053E-4F03-A4BA-C8535099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682-06DB-4DA0-A648-27132AA3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3DC-D16E-49AD-9728-A1AC48D9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A59-38C7-44BE-8E61-5E909483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938-291C-465B-8BC7-732AC8B3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CDC-01CD-455A-A708-1F12BFEB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F99-D733-46AC-A8A8-E457EA9E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B8C-DB2A-4FA9-9BB4-DE3533DE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B54-49C0-4354-89C7-082F5C00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1FF-62B4-48FB-8AFE-9905AB1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BA2-BF96-4922-8DA5-CD10ADA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C17E2-72CE-4B24-B511-ECAC9C3F87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