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65869"/>
        <c:axId val="86183718"/>
      </c:barChart>
      <c:catAx>
        <c:axId val="46965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83718"/>
        <c:crosses val="autoZero"/>
        <c:auto val="1"/>
        <c:lblAlgn val="ctr"/>
        <c:lblOffset val="100"/>
        <c:noMultiLvlLbl val="0"/>
      </c:catAx>
      <c:valAx>
        <c:axId val="86183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5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A67-6BDB-41B8-8234-9F5A5B4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EB8-12AF-4A00-8DA1-40537AB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DC0-0D1A-4C26-BD38-1D6F495A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F6A-B812-4F70-BB14-9713B937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5BF-2C14-4C3A-A60D-956DBFE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FF0-3F3A-4006-B7A9-EF0BBE8A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27C-DAF7-4A14-B211-E3692419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2D0-1A5A-43D0-90A0-E0F1FC5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143-A415-451E-809B-CE603AF2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E42-E147-495F-905B-AA4C045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10C-4D64-405A-A5A9-A2568A1B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564-9856-42A8-941D-8CBF3A0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B5850-0E6B-491A-8A11-BC38A832E7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