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39783"/>
        <c:axId val="1181179"/>
      </c:barChart>
      <c:catAx>
        <c:axId val="74639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1179"/>
        <c:crosses val="autoZero"/>
        <c:auto val="1"/>
        <c:lblAlgn val="ctr"/>
        <c:lblOffset val="100"/>
        <c:noMultiLvlLbl val="0"/>
      </c:catAx>
      <c:valAx>
        <c:axId val="11811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39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4BA6-559A-40D5-A317-14EAE48A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652-B96E-4D60-BF6C-FFD82A89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E73-FB09-45C1-B0F1-01C4BBB1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56B-1FD0-4FBC-A00C-E1D1EAB5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2BD-8164-48D2-A0E9-68C1B544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5D0-7709-41A4-BEAA-4BFFE1C2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30FC-A569-4A4E-ADA9-CBD43065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F79-E806-409E-B20C-8F3FAEC6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A51-9A84-415A-B04D-0D35EE5F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426-2286-480A-B027-AF0E6170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8A0-82A5-414A-9F07-9C984EBA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5505-DEB8-4C93-BE0E-29BB4A3C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918A1-50FB-4ACB-BD04-3A432CCD34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