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56697"/>
        <c:axId val="8478039"/>
      </c:barChart>
      <c:catAx>
        <c:axId val="51256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039"/>
        <c:crosses val="autoZero"/>
        <c:auto val="1"/>
        <c:lblAlgn val="ctr"/>
        <c:lblOffset val="100"/>
        <c:noMultiLvlLbl val="0"/>
      </c:catAx>
      <c:valAx>
        <c:axId val="8478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6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7EB-6BBC-4CF0-8B33-33DDD789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603-7BC2-4A23-9782-4024141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789-A653-4CD4-BCBE-CB18F695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27F-D7A1-4850-B889-6482B3EB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CAD-9704-4B46-90B2-563ED17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C95-01AC-4AF3-8C16-4F11DBB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72A-0FC8-4314-9801-DF67DF58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9F3-AA6C-4EC0-8C27-2B1451C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D94-92A0-4F0D-B2BF-E466DDF0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7FB-E645-4409-8893-F0E3A5EB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735-72FE-4F7C-8467-C3E830C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F12-FEF5-48EE-BA49-351462DD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C49DB-5E86-4AD4-B8F2-68106633EC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