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113"/>
        <c:axId val="1944120"/>
      </c:barChart>
      <c:catAx>
        <c:axId val="891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4120"/>
        <c:crosses val="autoZero"/>
        <c:auto val="1"/>
        <c:lblAlgn val="ctr"/>
        <c:lblOffset val="100"/>
        <c:noMultiLvlLbl val="0"/>
      </c:catAx>
      <c:valAx>
        <c:axId val="19441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BBF7-7C0F-4AC4-8773-4CB505AE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DAA-67A3-4962-8562-B35F5003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F226-E5E7-45F8-B4E6-72F4680C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2B1-6CE2-4378-B608-14FF3F85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3FB-6619-4BE8-BD68-9637D969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1FD-322E-4ADA-9703-58AB22BE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E01-4DC3-4F8C-8BDD-C505B7EA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B7F-1A1B-4078-8584-D394AA68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582-D739-4712-ACF4-DE9391A0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BA8-A1CF-41D4-A1E9-B0502D77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87C2-2A17-4D0F-BBBE-41C6633B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EDF-9F87-4358-B177-DC0CDDD5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58D76-EC69-444B-B3F1-5B37163B82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