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50471"/>
        <c:axId val="26854330"/>
      </c:barChart>
      <c:catAx>
        <c:axId val="33650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4330"/>
        <c:crosses val="autoZero"/>
        <c:auto val="1"/>
        <c:lblAlgn val="ctr"/>
        <c:lblOffset val="100"/>
        <c:noMultiLvlLbl val="0"/>
      </c:catAx>
      <c:valAx>
        <c:axId val="26854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0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E2D-4A22-4C72-A853-9F6ACE44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43D-F1B9-4757-9F64-A65309D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888-978D-4BBD-B05B-B395F4EF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75C-4734-43D4-9BF8-B6846ED7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5B9-1823-49D9-950F-27056BF6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3D4-FA8D-424E-9C1A-66621D4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F66-C52E-4FD1-95BC-C7C15DB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4CE-49FF-4DF5-8ADE-D6D4F1F4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C95-CE61-4FD7-A46A-6C2ED68A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EC9-10E5-416F-AEC3-2B338BB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A38-C521-4744-AFD9-AF06AF93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442-258F-46AD-8C4D-C5CA5FD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92830-24B5-4CFC-A4F6-6344C0D96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