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925157"/>
        <c:axId val="18891350"/>
      </c:barChart>
      <c:catAx>
        <c:axId val="669251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891350"/>
        <c:crosses val="autoZero"/>
        <c:auto val="1"/>
        <c:lblAlgn val="ctr"/>
        <c:lblOffset val="100"/>
        <c:noMultiLvlLbl val="0"/>
      </c:catAx>
      <c:valAx>
        <c:axId val="188913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9251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8436-65F0-4E9E-B7C9-BB4D7135D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3EEC-6A68-4B24-B54D-CBDAC1D49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3AF5-B2DA-4958-B03E-D88ACA6F8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F8D6-BA92-4BA7-8F2F-A19DC2791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80A2-5807-4595-A38B-F0460BA5A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5884-CBBF-46F7-A39C-AF5BAF9B4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CBE4-B2F6-47F1-AC33-05242EBCF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63B8-5B2C-4CEA-82BD-F5240164B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2A37-A5DE-4AFD-A563-5B61C3DF9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6364-D59C-491E-BF48-87A111867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BB93-F922-4F63-B7C7-D54637AD4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1AA2-B9AF-4B7C-9E3E-A4FEE16D0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2CB626-16BC-485B-A28C-941BAA3DF69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