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75669"/>
        <c:axId val="41607820"/>
      </c:barChart>
      <c:catAx>
        <c:axId val="87475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07820"/>
        <c:crosses val="autoZero"/>
        <c:auto val="1"/>
        <c:lblAlgn val="ctr"/>
        <c:lblOffset val="100"/>
        <c:noMultiLvlLbl val="0"/>
      </c:catAx>
      <c:valAx>
        <c:axId val="41607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75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CA9-BC96-4E94-9F61-35A41456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C528-2970-4BFA-841D-779BC2E0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21D-2A92-4F1E-9446-50CE6568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21B5-3F26-47C5-B3AC-560AA9BE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0E0-D329-4DEC-932B-132EFC37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5D0-7D3A-48C6-A8EC-324627BE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3F2-C395-4013-B97A-4CBBF8AB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476-730A-4911-B803-5C5F3503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52A-8725-4064-B8E2-0A2162BB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A42-9F76-42CA-A698-A24FA9FC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FD6-6459-4B10-B1F5-1AE73A59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53D-720F-4415-A41B-078F88D6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E3DEC-C630-4AAD-BA46-7EE2736C31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