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36951"/>
        <c:axId val="43894243"/>
      </c:barChart>
      <c:catAx>
        <c:axId val="41336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4243"/>
        <c:crosses val="autoZero"/>
        <c:auto val="1"/>
        <c:lblAlgn val="ctr"/>
        <c:lblOffset val="100"/>
        <c:noMultiLvlLbl val="0"/>
      </c:catAx>
      <c:valAx>
        <c:axId val="43894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6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D9E-AC02-4825-9AAA-0AF63371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C81-9035-4112-BA88-9A10A2C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F30-247C-4E77-AEE2-076C2620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7D9-D6AB-4DDC-9ECF-5E039F16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AD9-1EA7-4436-93A2-FB887A11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FBB-7201-4AB5-B167-FE1697AA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1DF-069B-40E7-B446-AECB497C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5BF-EA37-4BF5-A3EA-5F3ECF2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D45-D14B-401A-BBC5-312A1E1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86D-2F50-4166-A36A-3362AB3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7B1-F007-41A8-A1A3-C19F5C89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F0F-A430-4DAD-B4AB-45BF08C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34CA-5E4D-43C8-8FE7-CA517A5DFE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