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75022"/>
        <c:axId val="45032940"/>
      </c:barChart>
      <c:catAx>
        <c:axId val="99075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32940"/>
        <c:crosses val="autoZero"/>
        <c:auto val="1"/>
        <c:lblAlgn val="ctr"/>
        <c:lblOffset val="100"/>
        <c:noMultiLvlLbl val="0"/>
      </c:catAx>
      <c:valAx>
        <c:axId val="45032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75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BCE-7639-4F6B-8E61-68C8C71E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47C-E0D6-4807-BFCF-70AE76A1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535-6FCE-46D7-920E-0CA2FE9C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C2C-2B1C-4E0A-8373-B15DD5F1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F98-935A-4E69-AE43-074F51F8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856-729B-4263-990A-0BCD5A68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BDF-EF97-4B52-AAF4-AA3B6D57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9A7-9DC1-4E83-B78A-310161C5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D6D-22BF-40FB-9C21-746126BC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588-05C7-4E2D-8045-E5B6C9F0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8FC-6386-4E50-BC36-4008D557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E4F-03CE-4D8E-9F13-BCD6E1AF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FB233-4A23-4B78-910A-5089305443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