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13684"/>
        <c:axId val="66904442"/>
      </c:barChart>
      <c:catAx>
        <c:axId val="25313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4442"/>
        <c:crosses val="autoZero"/>
        <c:auto val="1"/>
        <c:lblAlgn val="ctr"/>
        <c:lblOffset val="100"/>
        <c:noMultiLvlLbl val="0"/>
      </c:catAx>
      <c:valAx>
        <c:axId val="66904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13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781-705D-4E4D-9992-C39B88E5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307-A867-4191-82C6-3D0C59AA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C55-14E0-4C2E-9DDD-BD4EFB31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BE7-D1AC-49E6-8543-E3F7AB17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460-B94F-469C-AA54-CDCC93B4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5A7-1DE1-4C45-B9E1-292DBCAB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2A5-A62D-40A1-B267-7F0B311C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A0C-26A9-4AD0-B103-DACD7BA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004-C30A-4B7A-B8D5-30A77011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170-6D24-443F-B982-8F7A3CC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A5F-E959-4B5D-A254-F0834E6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2E4-5CCD-40BE-9E7D-8B38760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FF6A0-FFCC-4234-BC9D-9F958F139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