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6251"/>
        <c:axId val="30920516"/>
      </c:barChart>
      <c:catAx>
        <c:axId val="19662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20516"/>
        <c:crosses val="autoZero"/>
        <c:auto val="1"/>
        <c:lblAlgn val="ctr"/>
        <c:lblOffset val="100"/>
        <c:noMultiLvlLbl val="0"/>
      </c:catAx>
      <c:valAx>
        <c:axId val="309205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62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473-B981-4C69-972E-ABE6C5AB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412-8D90-4AB3-AFA1-B631BA64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FC4A-AF04-45E9-AFC5-67C8DA1B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0445-462C-4B5D-9C33-20D554D7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E358-5D6C-471D-A32F-83B7F648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3BBB-5222-4D18-89F0-3850EA7C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ED9F-5977-4F71-B466-7C8D1396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8FF1-4BD9-474F-ACED-23409C93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9EA6-B023-42E4-A6CB-11D4A68A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8624-FBDC-4AEF-BD56-403CDF99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CF0B-3359-4C03-9C78-A18DBD40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182-95D1-4A57-AFC1-618A83AD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0170F-22D7-4715-95CF-CE81F5096E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