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32030"/>
        <c:axId val="39099685"/>
      </c:barChart>
      <c:catAx>
        <c:axId val="14532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99685"/>
        <c:crosses val="autoZero"/>
        <c:auto val="1"/>
        <c:lblAlgn val="ctr"/>
        <c:lblOffset val="100"/>
        <c:noMultiLvlLbl val="0"/>
      </c:catAx>
      <c:valAx>
        <c:axId val="39099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32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09D-5E8C-432A-AFFB-352CF278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B9D-D360-4F4D-B193-F39A3DD7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5B6-AFE9-4173-A632-15FABB11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83E-F365-4FE6-9DCF-42A408FA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FAD-E2E0-4BE9-8DD6-6A5971D5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93B-4213-4718-BAAB-CEADDD38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EC5-22A7-450A-AF44-ADEF6329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10A-B257-48F9-ADCF-35FDEC4D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388-28FA-47EE-86BA-11C3C2E6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545-BBE8-45CD-B11D-5F5FD886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4AC-6041-47AD-9AF0-5AE6A36E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3E9-6BE4-4526-B505-21E0AD7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80528-F22D-413F-AB0B-028A7DF61A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