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085210"/>
        <c:axId val="29012884"/>
      </c:barChart>
      <c:catAx>
        <c:axId val="96085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12884"/>
        <c:crosses val="autoZero"/>
        <c:auto val="1"/>
        <c:lblAlgn val="ctr"/>
        <c:lblOffset val="100"/>
        <c:noMultiLvlLbl val="0"/>
      </c:catAx>
      <c:valAx>
        <c:axId val="290128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85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F43E-992D-4DCB-B6C8-EC8F5A81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FF40-6952-46CF-9BEB-4818F5D9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844-4996-4A9E-80FB-061F69DB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8F77-A5FE-4D53-B5CC-CA5A9FB7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BFD-100D-4B64-A975-D2EC4EDA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53A-57BD-4B39-AF70-26A992A4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8D6F-3597-466B-802F-A6C7D0C1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905-A94A-4808-B3A9-9C3475F9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81E-A4CF-41A4-A260-EDB0FB35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CBBB-C6C9-4CB8-B74F-ED1CE561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65FC-B0B9-4DC0-A372-557FD1E3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0A2-A3B6-49C3-891E-9A4F3CBD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74E5B-B17D-47B0-85FE-F09F1F4F6B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