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733327"/>
        <c:axId val="65784931"/>
      </c:barChart>
      <c:catAx>
        <c:axId val="347333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84931"/>
        <c:crosses val="autoZero"/>
        <c:auto val="1"/>
        <c:lblAlgn val="ctr"/>
        <c:lblOffset val="100"/>
        <c:noMultiLvlLbl val="0"/>
      </c:catAx>
      <c:valAx>
        <c:axId val="657849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333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C60F-0262-47BE-8D6F-D96A7D658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57F9-BA3E-49E8-B95C-8AC117FD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EB34-E1A6-4C83-AAFA-63FF51AF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A85A-757B-4350-B30E-36BC741A7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710B-14D1-418A-AFE5-F24553BC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FC4F-7585-4386-8E2F-C1E76E74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295E-7FF0-4908-85BD-F03798C5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67EA-C4D2-4231-918E-A4DCFFD2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4CE9-7B2C-4D4B-8D42-A2E32FCB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DDB6-1192-4B7E-A8DA-B33D5179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2282-A5EA-46FC-80AB-AC4F319A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9FDB-3155-4885-878D-9DF81628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D12B4-E948-449A-95EA-9D3AB2CB84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