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46356"/>
        <c:axId val="68443087"/>
      </c:barChart>
      <c:catAx>
        <c:axId val="83846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43087"/>
        <c:crosses val="autoZero"/>
        <c:auto val="1"/>
        <c:lblAlgn val="ctr"/>
        <c:lblOffset val="100"/>
        <c:noMultiLvlLbl val="0"/>
      </c:catAx>
      <c:valAx>
        <c:axId val="68443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6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529-BBAD-4BE0-A0C7-9BF98DE6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CBB-EA3E-4855-8132-8970BFA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35A-9C0C-4239-B429-40D35DB7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60D-6A32-4635-82D6-8F5475F8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83F-5DFC-4BEB-BE98-B400690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332-0B83-4260-9114-8E33AFAC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111-7306-44BE-98A2-CE17E5D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026-915A-48D9-AE82-8C3DF82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EAC-C91E-495F-812E-B05E86A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BCF-7FD2-4500-BCD1-33CF046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E43-4C46-4553-8E56-98A4633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51E-81D9-4B30-802A-1B1F298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350A-6FDD-4D5A-A03C-C10C19B75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