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04918"/>
        <c:axId val="28838552"/>
      </c:barChart>
      <c:catAx>
        <c:axId val="44804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38552"/>
        <c:crosses val="autoZero"/>
        <c:auto val="1"/>
        <c:lblAlgn val="ctr"/>
        <c:lblOffset val="100"/>
        <c:noMultiLvlLbl val="0"/>
      </c:catAx>
      <c:valAx>
        <c:axId val="28838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04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3E9-EA68-4815-AFE4-212AB695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A68-1728-4103-8267-FE6DBB35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FF0-24C7-454B-93F1-A8CD6BC7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9B0-B3DE-40A0-9FFD-8C3CCEF6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F6B-428D-4598-BE55-2E64ABFD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375-6ED6-42BC-BC66-E430BB04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49A-C92C-4DD0-BE43-B1BAF5FB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C51-FBAD-4AB3-B8AE-0E392735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BB4-205F-4BD4-9EBA-8F23513D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2BD-EFFF-483F-9148-96B253AA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A69-9A59-4EB7-A7F4-0EBEE36E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713-DE5E-4B7B-A2C9-B8ADEEA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20364-F359-432B-96B1-E185F5C926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