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0636"/>
        <c:axId val="33377762"/>
      </c:barChart>
      <c:catAx>
        <c:axId val="7320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7762"/>
        <c:crosses val="autoZero"/>
        <c:auto val="1"/>
        <c:lblAlgn val="ctr"/>
        <c:lblOffset val="100"/>
        <c:noMultiLvlLbl val="0"/>
      </c:catAx>
      <c:valAx>
        <c:axId val="33377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0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984-009A-40DD-A1D6-5C6CDED7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85D-2291-4505-A69E-66CA1890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F61-454A-4784-9599-965C4775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5EA-04DB-44F9-A853-C2010D4E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3A9-975F-4F79-AA1F-77A17F0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5A2-0D05-4B34-9887-E8A4774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9F5-ED26-4FBA-AB92-7A1461A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529-169E-4B4A-9663-AA0487F6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DC9-E78B-4E47-8BEB-2A1268C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3C8-8DD6-4EB1-81D8-E4240BE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32C-E5C6-4BCE-BA59-AB70B12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4B7-44F6-4FF9-B75B-E44A72B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E6F00-645B-46C1-9961-52C9B45E43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