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63404"/>
        <c:axId val="36800110"/>
      </c:barChart>
      <c:catAx>
        <c:axId val="68763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00110"/>
        <c:crosses val="autoZero"/>
        <c:auto val="1"/>
        <c:lblAlgn val="ctr"/>
        <c:lblOffset val="100"/>
        <c:noMultiLvlLbl val="0"/>
      </c:catAx>
      <c:valAx>
        <c:axId val="36800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63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C3B-D542-42F0-AD30-92EEFF39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595-28C1-439A-A109-A61E3D72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F23-3A83-4D2A-A3F8-53B03885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B5B-1534-47E9-BB3C-ABBE05A0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EF24-4F34-4719-904E-38560B92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F3A-224C-43AE-8C83-EF8021F1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02F-199F-493A-B7F2-0DBDB4A7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A44-8F58-49BA-9D08-C9A51D5E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F41-5E9F-4851-BE25-7B15B596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778C-405F-4FA5-83CA-68AF7282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B4A-4E6E-45E2-8D18-9B917015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A81-D6D0-4B68-B6AC-9EC75426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10FEF-B9FC-4E71-B467-5B7F245CA5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