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15207"/>
        <c:axId val="78142704"/>
      </c:barChart>
      <c:catAx>
        <c:axId val="65515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42704"/>
        <c:crosses val="autoZero"/>
        <c:auto val="1"/>
        <c:lblAlgn val="ctr"/>
        <c:lblOffset val="100"/>
        <c:noMultiLvlLbl val="0"/>
      </c:catAx>
      <c:valAx>
        <c:axId val="78142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15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E40-BC17-4E9B-B9C4-EFE4F4A2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C66-7BFC-44BB-B133-F8254FC9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71A-26FB-4406-A1B7-BBB43EC2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27D-8DEA-40AF-9FB4-AEEB3950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186-21B7-4227-B47A-506294C0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1B1-B3C9-4B14-86B6-41E54F40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CF0-0212-42D0-83CA-B35883B2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018-E474-43E9-96B3-5A5A912B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EAD-7FED-436E-A7F3-6600EE3A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49F-E054-4700-830B-D2F4952C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85F-97B6-41C6-8C9F-F429A51C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DD2-DEF6-4EEE-B5FD-9612E6C5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A3752-3707-42F9-9184-4D79768CE9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