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17623"/>
        <c:axId val="65659732"/>
      </c:barChart>
      <c:catAx>
        <c:axId val="14717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59732"/>
        <c:crosses val="autoZero"/>
        <c:auto val="1"/>
        <c:lblAlgn val="ctr"/>
        <c:lblOffset val="100"/>
        <c:noMultiLvlLbl val="0"/>
      </c:catAx>
      <c:valAx>
        <c:axId val="65659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7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20B-1CCA-444B-B057-E5802344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D59-ED78-4605-8A29-52743E54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F9F-9EE1-4574-94AB-C479ADFB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33C-1D73-446F-BEDE-98570535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C46-E31B-4897-B364-9C19A17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3F9-6873-44D7-BD19-B37A8247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D69-17E8-4BC5-8DA2-96E3A003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E51-C4AA-47A7-91B8-311E6B24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74F-567A-4F11-8233-D3E9A4B1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1BA-2D7A-48E5-966A-0E549D5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0CD-F6F7-4BA1-AC15-7EBD1D8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FA7-23C3-441C-BEA7-7CF134C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9F705-F228-414A-A655-2139510957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