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8999"/>
        <c:axId val="56314513"/>
      </c:barChart>
      <c:catAx>
        <c:axId val="7978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14513"/>
        <c:crosses val="autoZero"/>
        <c:auto val="1"/>
        <c:lblAlgn val="ctr"/>
        <c:lblOffset val="100"/>
        <c:noMultiLvlLbl val="0"/>
      </c:catAx>
      <c:valAx>
        <c:axId val="56314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8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404-DBF0-4518-BF86-D47E6183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363-0198-4DF6-AC74-6CF35622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E1D-F2C5-4FA4-950E-C181BA8F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DC3-8AEC-4120-8243-9EFEEB9C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E40-1A2F-48E2-B6F7-088D55AF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EC3-2E5D-4826-BF10-92EFCCB2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2D2-6BC9-4BB1-9A9A-F50DBC2B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EB1-7EE0-44C2-ACC2-69E59F36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D87-1CA4-4888-8E4B-53457089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2FA-C096-42AF-9ABF-CD2E5CAA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2EB-43A3-41B9-B7FC-DCAFD13C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F5F-D84E-420C-9610-B0517FD3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DD081-43D3-4410-A973-85EB1A9199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