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60264"/>
        <c:axId val="91285398"/>
      </c:barChart>
      <c:catAx>
        <c:axId val="487602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85398"/>
        <c:crosses val="autoZero"/>
        <c:auto val="1"/>
        <c:lblAlgn val="ctr"/>
        <c:lblOffset val="100"/>
        <c:noMultiLvlLbl val="0"/>
      </c:catAx>
      <c:valAx>
        <c:axId val="91285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602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B160-4A94-4396-AB80-D807D627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AE3-DB94-4ADE-98CB-50A4F13E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7B5-CC7A-4213-B665-A6386F5D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8149-E171-4F52-BD7B-FD4804FA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F29-C930-4257-9096-AF38F6BE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C0E-816D-4A4C-A502-F8BC093F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04FD-9A1A-4C20-A8A6-F3F87EA6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DFC9-9416-4F4F-AF09-5100A0D9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CA13-3417-46EA-AA8D-BE223463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740-2650-4AD2-8E8C-165CAEAF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6F6C-30D1-45E4-9374-87CA165E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24D2-3849-4E99-B44F-572BA1CE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D2AAE-80D0-4A0C-A245-F5CBE744D5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