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28295"/>
        <c:axId val="29042057"/>
      </c:barChart>
      <c:catAx>
        <c:axId val="84228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42057"/>
        <c:crosses val="autoZero"/>
        <c:auto val="1"/>
        <c:lblAlgn val="ctr"/>
        <c:lblOffset val="100"/>
        <c:noMultiLvlLbl val="0"/>
      </c:catAx>
      <c:valAx>
        <c:axId val="29042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28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DBC-6A04-4E7F-9F6A-CBC6408B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C93-8D4F-4296-824E-C469C9F0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E9F-D5DD-4EF8-AAD1-579BA0D9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836-F8C2-4DAF-91C5-66B2E441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75C-DADC-4D13-A48C-18B9DAFE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D3B-4D4A-40D3-9728-906215CD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D40-1CED-4B3B-9C27-83A8856D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522-ADDD-4918-A580-54E7BB17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1B8-BB07-45FC-89F4-1BDA4645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7DAD-54E6-4031-8C50-DA4D9DBC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459-A72B-4A97-80A5-0CB4701C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F10-F56A-4049-9E91-001AF382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BCB81-2B23-47C6-828F-B9701E097B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