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0792"/>
        <c:axId val="16190532"/>
      </c:barChart>
      <c:catAx>
        <c:axId val="83070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90532"/>
        <c:crosses val="autoZero"/>
        <c:auto val="1"/>
        <c:lblAlgn val="ctr"/>
        <c:lblOffset val="100"/>
        <c:noMultiLvlLbl val="0"/>
      </c:catAx>
      <c:valAx>
        <c:axId val="16190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0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C38-595B-4DD5-AA68-7492092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272-225B-4DC5-B46C-CA7F485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00C-EC2E-4F73-BF11-1DCB417E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142-EF22-463D-81D1-B73ED82C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923-3D6D-4095-A8D3-C5C0B62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F9C-EC60-47E4-A400-4043941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A4B-8B22-45EA-B6BE-148B35A0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A69-FA1D-4A3D-B228-1B0A798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534-9D33-4F79-8A50-AF6A0EF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EAC-CF94-438B-9EDF-48EBD2A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109-A28A-4F4B-B447-848672B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23E-4804-4118-A565-C063796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3E57-AC37-45ED-AEAC-809B2F3FF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