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91721"/>
        <c:axId val="57445405"/>
      </c:barChart>
      <c:catAx>
        <c:axId val="36691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5405"/>
        <c:crosses val="autoZero"/>
        <c:auto val="1"/>
        <c:lblAlgn val="ctr"/>
        <c:lblOffset val="100"/>
        <c:noMultiLvlLbl val="0"/>
      </c:catAx>
      <c:valAx>
        <c:axId val="57445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1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F1D-C1B0-4826-85B6-7260441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23A-4698-4BEE-89A5-5F3E60F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717-EEFE-4BDE-AEDF-6288F45A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ABD-459F-4530-A2FA-6BF3C762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A65-8936-4ED6-A96F-5173090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24F-9536-4448-A512-108CB38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D07-1459-4F76-83F3-56D6261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819-2038-4FA7-A72F-EC8EBE91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B74-1126-4082-94F0-2CA0BDF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8E9-EE43-43ED-94F0-36A5946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C74-28FD-4D0A-BEB6-6A462F0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7D3-962E-4CAE-84A8-0DBF3E3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DA0E8-D5E2-4979-9476-D62FDF257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