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98159"/>
        <c:axId val="1990843"/>
      </c:barChart>
      <c:catAx>
        <c:axId val="75298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0843"/>
        <c:crosses val="autoZero"/>
        <c:auto val="1"/>
        <c:lblAlgn val="ctr"/>
        <c:lblOffset val="100"/>
        <c:noMultiLvlLbl val="0"/>
      </c:catAx>
      <c:valAx>
        <c:axId val="1990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98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31C-459A-49CB-AD0C-922A316D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E3C-F344-4EC4-9288-D46C287B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32E-4B75-4AD3-9EB4-5C43E36D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771-96F9-4A01-9EF2-8D21228F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A02-BA56-42DC-9CB9-3E4A1622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0D8-EE88-45BD-8D25-7768593E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F2C-EEED-4F8C-9362-CA0361DD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CD6-7E59-4C1B-A9D8-D5E56845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2C5-A2A0-4F6D-BE1E-3E00DD7D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83C-B377-4B44-8B4C-5C321F62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E40-5F36-4767-9405-3234EE0C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6D3-3E23-48BD-8C4A-274D903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9F09F-B7DB-414B-A521-4A444C4D68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