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109879"/>
        <c:axId val="38705502"/>
      </c:barChart>
      <c:catAx>
        <c:axId val="901098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05502"/>
        <c:crosses val="autoZero"/>
        <c:auto val="1"/>
        <c:lblAlgn val="ctr"/>
        <c:lblOffset val="100"/>
        <c:noMultiLvlLbl val="0"/>
      </c:catAx>
      <c:valAx>
        <c:axId val="387055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098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1EA2-6AB7-4EF1-BE77-A7AB3D529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785D-F001-4281-AB40-868F39DA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7803-412F-4FA3-95D3-D69B6C34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AE10-19CC-45D2-92E7-701EB605B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5E37-E0AE-4ECB-BAEE-AD97B9EA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F5CD-42C1-4C67-8F61-DE57EFCA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EC56-7C1B-4BF1-9039-AACB3069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B8D3-CCDA-4712-880B-9EDCF904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F1BF-FD84-4DB3-9EF8-EE7E3A80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DD7C-76AF-4B91-A263-D10AB16C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E4B1-400C-4907-9C96-7553ED9F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A902-D22B-40A5-9B93-8AFD8383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369EB-4886-4AAF-874E-644561C2D0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