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917469"/>
        <c:axId val="86065336"/>
      </c:barChart>
      <c:catAx>
        <c:axId val="90917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65336"/>
        <c:crosses val="autoZero"/>
        <c:auto val="1"/>
        <c:lblAlgn val="ctr"/>
        <c:lblOffset val="100"/>
        <c:noMultiLvlLbl val="0"/>
      </c:catAx>
      <c:valAx>
        <c:axId val="860653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17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27B4-2683-42A0-B03F-F8D500CB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D503-627E-4595-83D6-398644E2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725-5F56-4AAE-BFCA-3B3E341D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C46A-5732-46A6-8092-C31900AE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82A6-AB7D-4D12-B7EE-2DB92E13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63D-D711-42D2-B4B3-A3B7C71A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59AF-8B69-4B57-82D2-22B67DC0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DBD4-2996-4CC0-B48C-88C6EE0C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4D19-F51F-491D-AF19-B5FFE679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6B1D-302E-4C32-8B31-3CAA2B87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A55D-223C-46F7-BFE4-2BD98077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3F7-486E-4D6D-924A-4214A1FB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CBC8C-347B-4A41-9BCB-EB0D70DB5B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