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26863"/>
        <c:axId val="12255875"/>
      </c:barChart>
      <c:catAx>
        <c:axId val="81626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55875"/>
        <c:crosses val="autoZero"/>
        <c:auto val="1"/>
        <c:lblAlgn val="ctr"/>
        <c:lblOffset val="100"/>
        <c:noMultiLvlLbl val="0"/>
      </c:catAx>
      <c:valAx>
        <c:axId val="1225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26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BD6-3698-4F5B-B688-87A90553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A99-03C3-49C0-BCEC-4115C86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2E3-2735-4E13-B475-48086C48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1BF-7907-4F56-A9AB-75844A36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9C8-8BC0-4778-B361-DC19F0F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066-9947-4BCF-8A4C-168ADEDC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137-982C-4FA4-AEBD-ED80FFC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588-3272-4308-8E81-6F45B9A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30E-2DA8-40AB-B2DE-78EAAA5C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53E-7167-4D13-B35F-F893E74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33C-910C-44CD-85AE-4837A68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828-B4F8-47D9-B3A5-F4CD688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3A266-5911-4551-B587-C889EF54A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