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74187"/>
        <c:axId val="21037258"/>
      </c:barChart>
      <c:catAx>
        <c:axId val="59974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37258"/>
        <c:crosses val="autoZero"/>
        <c:auto val="1"/>
        <c:lblAlgn val="ctr"/>
        <c:lblOffset val="100"/>
        <c:noMultiLvlLbl val="0"/>
      </c:catAx>
      <c:valAx>
        <c:axId val="21037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74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2A5-B21B-4EC3-8D88-60F62EEF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25E-0E04-4620-AF0B-6779AE2B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B91-3936-4FE1-BAE6-94DAACE0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EDC-9053-4D82-B367-530F6A0A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087-D597-40C5-A647-D5D7ACB0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5CD-FFAF-4EB2-8D6D-6F86EEC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BDF-148D-4373-BDEF-C9ADB441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0FB-BCE1-4E30-AA51-0A3D1D22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1C4-131C-40DC-AE14-D584FA5A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135-09BD-4E18-A4B3-4DCAD310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2FE-5794-4EB2-958D-FC5E4030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E6B-1074-4549-A16A-B538EDC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A8B2E-FE1E-488A-BB6F-12DB8DFC31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