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37929"/>
        <c:axId val="22203646"/>
      </c:barChart>
      <c:catAx>
        <c:axId val="83237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03646"/>
        <c:crosses val="autoZero"/>
        <c:auto val="1"/>
        <c:lblAlgn val="ctr"/>
        <c:lblOffset val="100"/>
        <c:noMultiLvlLbl val="0"/>
      </c:catAx>
      <c:valAx>
        <c:axId val="22203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37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357-B44F-41D6-B499-361585F6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FF7-184D-4FC9-B294-AE1672F7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704-8003-46E0-95E0-637E0A32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E8B-E7C7-4E75-AD4A-B5D9D88F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06E-01D4-4F1D-99F4-2A7DEF0A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072-DCFF-4FBF-98BE-6B1B4418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796-1629-475C-9A55-C5F11D5E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08D-A5EF-496F-9F05-BE5EE214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E62-7FCA-4ABE-9E90-53C8CC40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356-250B-4647-8852-1D3E1D9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F80-D0B3-4A94-970D-A496C565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582-0308-49E9-9BBC-8A9731CA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3127E-FBC1-49AC-AB32-2354A38F8C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