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07703"/>
        <c:axId val="94413427"/>
      </c:barChart>
      <c:catAx>
        <c:axId val="58307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13427"/>
        <c:crosses val="autoZero"/>
        <c:auto val="1"/>
        <c:lblAlgn val="ctr"/>
        <c:lblOffset val="100"/>
        <c:noMultiLvlLbl val="0"/>
      </c:catAx>
      <c:valAx>
        <c:axId val="9441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7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B58-ACFF-4591-8DCB-9A4DBB65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D0A-B20C-43F2-980E-9D692EA4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E88-DE26-495D-AFAC-E492A265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F04-98D9-4D9B-A0D2-1AC6589C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B64-EC48-457E-AB4C-38843A3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1BC-9410-477B-B189-BDA3C837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AE7-390A-44E2-9819-56C800D0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CAE-8A6A-48C4-A3C4-4E6DF0FC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B67-DFCF-435B-AB17-D8F164C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E03-75AF-4C51-AF56-9EC0967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930-A8CD-4528-84F5-BEDCCD2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459-492C-43E6-B9EB-0CE4EC9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F5228-18BE-4F57-B648-89064A6837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